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A9B-1D5C-45E6-B11D-07EC1BB8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3FC-C245-4536-894C-D5EE84C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1AE-B515-4FB0-99F2-A16262CE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6A0-EE30-46AF-AC6E-889C775F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E3B-85AF-41E2-A566-A57C0778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D69-3470-4096-8B5B-0FF6EB6D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1B1-0644-4866-AFAE-ACB9A874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D1F-F2AA-4E2C-B989-E883F06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486-9929-4BA7-9628-6D3D321D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3D5-39BF-41CF-9B7A-916BAEB6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DC2-D9C2-40CD-B223-A859F17F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93F-2E62-4BF5-94DB-454639C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7B6C-B84B-449D-A199-C5EEA2B49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 nh 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5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fieres jugar béisbol o fu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19144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743200" y="4038480"/>
            <a:ext cx="1828800" cy="166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800600" y="4114800"/>
            <a:ext cx="2266920" cy="156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7077240" y="3276720"/>
            <a:ext cx="2066760" cy="2361960"/>
          </a:xfrm>
          <a:prstGeom prst="rect">
            <a:avLst/>
          </a:prstGeom>
          <a:ln w="0">
            <a:noFill/>
          </a:ln>
        </p:spPr>
      </p:pic>
      <p:sp>
        <p:nvSpPr>
          <p:cNvPr id="47" name="Line 12"/>
          <p:cNvSpPr/>
          <p:nvPr/>
        </p:nvSpPr>
        <p:spPr>
          <a:xfrm flipV="1">
            <a:off x="2971800" y="38095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 flipH="1" flipV="1">
            <a:off x="5638320" y="41907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670572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2028600" cy="2257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457200" y="4697280"/>
            <a:ext cx="289548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Line 6"/>
          <p:cNvSpPr/>
          <p:nvPr/>
        </p:nvSpPr>
        <p:spPr>
          <a:xfrm flipH="1">
            <a:off x="4876560" y="1523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678168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MC900351201[1]"/>
          <p:cNvPicPr/>
          <p:nvPr/>
        </p:nvPicPr>
        <p:blipFill>
          <a:blip r:embed="rId4"/>
          <a:stretch/>
        </p:blipFill>
        <p:spPr>
          <a:xfrm>
            <a:off x="7356600" y="4191120"/>
            <a:ext cx="1787400" cy="14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2724120" cy="2567160"/>
          </a:xfrm>
          <a:prstGeom prst="rect">
            <a:avLst/>
          </a:prstGeom>
          <a:ln w="0">
            <a:noFill/>
          </a:ln>
        </p:spPr>
      </p:pic>
      <p:sp>
        <p:nvSpPr>
          <p:cNvPr id="57" name="Line 15"/>
          <p:cNvSpPr/>
          <p:nvPr/>
        </p:nvSpPr>
        <p:spPr>
          <a:xfrm>
            <a:off x="2590920" y="838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 flipV="1">
            <a:off x="609120" y="838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3352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os 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jugador lanza el balón con el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cinco jugadores en el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nueve entradas en el pa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jugador corre de una base 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ortero para o bloquea el bal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jugador tira el balón y enc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8660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fu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8580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alonc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781680" y="3124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éis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16292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éis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9343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fu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705720" y="4876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alonc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egan (al) béisbol en _____ de béis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ícher ______ la pelo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jardinero atrapa la pelota en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jugador ______ de una base 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 partido de béisbol hay _____ entr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57200" y="2087640"/>
            <a:ext cx="77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un cam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una pel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un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34240" y="3078000"/>
            <a:ext cx="71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anz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ences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a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75320" y="4267080"/>
            <a:ext cx="88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una por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un ces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un gu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61760" y="528804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i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vue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co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9840" y="627840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ue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380880" y="2133720"/>
            <a:ext cx="53352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457200" y="3124080"/>
            <a:ext cx="533520" cy="5335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6553080" y="4343400"/>
            <a:ext cx="533520" cy="5335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5257800" y="5334120"/>
            <a:ext cx="53352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3352680" y="6324480"/>
            <a:ext cx="533520" cy="5335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34:41Z</dcterms:created>
  <dc:creator>Helen Zumaeta</dc:creator>
  <dc:description/>
  <dc:language>en-US</dc:language>
  <cp:lastModifiedBy>Helen Zumaeta</cp:lastModifiedBy>
  <dcterms:modified xsi:type="dcterms:W3CDTF">2013-02-26T20:54:19Z</dcterms:modified>
  <cp:revision>9</cp:revision>
  <dc:subject/>
  <dc:title>Me llamo _________ Clase 6 nh/il La fecha es el 9 de mayo del 2011</dc:title>
</cp:coreProperties>
</file>